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C1A-48A0-4447-A0C0-38FAA57F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132-DE3E-4050-B898-BF34F780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5CB-ADD8-4EED-85F4-23AF7F19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B3D-8AFD-49A2-848D-6A5DCB50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593-9A59-486C-8311-A5CF1F0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1D9-2DA5-4539-961E-23B5C116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E96-3345-4AF9-BD57-CAD1438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77B-F798-41B2-A00E-570FD1B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A54-E3AF-49D7-B342-8B75F89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42-0BC1-4F27-88C0-5B0E44F3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CCB-032D-4776-B062-B9A445F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CFA-BA2F-4F39-9119-96847CC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75F-2A4C-4DA7-AF79-ABBF2ADB6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-Chip Sensors for Process, Aging, and Temperature 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ushik Mazum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red Robert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scillator can be stretched across a chip to sense temperature var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variation sensitivity should be min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mulations achieved a sensitivity reduction of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5041800" cy="36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14400" y="5334120"/>
          <a:ext cx="3174840" cy="960480"/>
        </p:xfrm>
        <a:graphic>
          <a:graphicData uri="http://schemas.openxmlformats.org/drawingml/2006/table">
            <a:tbl>
              <a:tblPr/>
              <a:tblGrid>
                <a:gridCol w="712800"/>
                <a:gridCol w="608040"/>
                <a:gridCol w="609480"/>
                <a:gridCol w="608040"/>
                <a:gridCol w="636480"/>
              </a:tblGrid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TI/PBTI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81532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Sensor Measures Beat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Measurement Method Isolates NBTI/PBTI Degradation from other variation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73100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ometer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C:\Users\jar3qf\Downloads\beat_freq.png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ed variation issues and exis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simulation methodology an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ed oscillator circuit to isolate process variation from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yed how circuit can be used as a temperatu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NBTI/PBTI degradation detec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f possible futur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. A. Alam, S. Mahapatra, "A comprehensive model of PMOS NBTI degradation," Microelectronics Reliability, vol. 45, pp. 71--81, 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anak Agarwal; Kanak Sani Nassif; “Characterizing process variation in nanometer CMOS”, Proceedings of the 44th annual conference on Design automation, June 04-08, 2007, San Diego, Califor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garwal, Kanak, “On-die sensors for measuring process and environmental variation in integrated circuits.” IBM Corps. Austin, TX.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e-Hyoung Kim; Persaud, R.; Kim, C.H.; "Silicon Odometer: An On-Chip Reliability Monitor for Measuring Frequency Degradation of Digital Circuits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olid-State Circuits, IEEE Journal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 43, no. 4, pp. 874-880, April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i Zhao; Liu, F.; Agarwal, K.; Acharyya, D.; Nassif, S.R.; Nowka, K.J.; Yu Cao; , "Rigorous Extraction of Process Variations for 65-nm CMOS Design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emiconductor Manufacturing, IEEE Transactions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2, no.1, pp.196-203, Feb.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umar, R.; Kursun, V.; , "Temperature Variation Insensitive Energy Efficient CMOS Circuits in a 65nm CMOS Technology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ircuits and Systems, 2006. MWSCAS '06. 49th IEEE International Midwest Symposium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, no., pp.226-230, 6-9 Aug. 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17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irc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C:\Users\jar3qf\AppData\Local\Microsoft\Windows\Temporary Internet Files\Content.IE5\32B9WUZD\MC900297177[1].wmf"/>
          <p:cNvPicPr/>
          <p:nvPr/>
        </p:nvPicPr>
        <p:blipFill>
          <a:blip r:embed="rId1"/>
          <a:stretch/>
        </p:blipFill>
        <p:spPr>
          <a:xfrm>
            <a:off x="4191120" y="1981080"/>
            <a:ext cx="4228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TI/PBTI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4038480" cy="202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05740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upload.wikimedia.org/wikipedia/commons/thumb/8/8c/Standard_deviation_diagram.svg/1000px-Standard_deviation_diagram.svg.png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st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I/O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 Oscil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Measure Mismatch or Variation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Measure PMOS/NMOS Variation Separat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64796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057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Circ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99128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4864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4495680"/>
          <a:ext cx="2590560" cy="1067040"/>
        </p:xfrm>
        <a:graphic>
          <a:graphicData uri="http://schemas.openxmlformats.org/drawingml/2006/table">
            <a:tbl>
              <a:tblPr/>
              <a:tblGrid>
                <a:gridCol w="1022400"/>
                <a:gridCol w="734760"/>
                <a:gridCol w="833400"/>
              </a:tblGrid>
              <a:tr h="194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G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k Pull-down / Strong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1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ull-down / Weak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.4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4191120" cy="1676520"/>
        </p:xfrm>
        <a:graphic>
          <a:graphicData uri="http://schemas.openxmlformats.org/drawingml/2006/table">
            <a:tbl>
              <a:tblPr/>
              <a:tblGrid>
                <a:gridCol w="698400"/>
                <a:gridCol w="698760"/>
                <a:gridCol w="698400"/>
                <a:gridCol w="698400"/>
                <a:gridCol w="698400"/>
                <a:gridCol w="698760"/>
              </a:tblGrid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7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4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8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5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9"/>
          <p:cNvSpPr/>
          <p:nvPr/>
        </p:nvSpPr>
        <p:spPr>
          <a:xfrm>
            <a:off x="5562720" y="1981080"/>
            <a:ext cx="3124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Monte Carlo to randomly vary Vt in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frequency of ring oscillator for each active header/footer over various process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statistical data from frequenc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hart 6" descr=""/>
          <p:cNvPicPr/>
          <p:nvPr/>
        </p:nvPicPr>
        <p:blipFill>
          <a:blip r:embed="rId1"/>
          <a:stretch/>
        </p:blipFill>
        <p:spPr>
          <a:xfrm>
            <a:off x="450720" y="3651120"/>
            <a:ext cx="42004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Voltage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05520" y="220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variability and systematic shift can be measured from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equation derived from simulation to calculate device-level variations with oscillato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146160" y="1901880"/>
            <a:ext cx="5114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4" descr=""/>
          <p:cNvPicPr/>
          <p:nvPr/>
        </p:nvPicPr>
        <p:blipFill>
          <a:blip r:embed="rId1"/>
          <a:stretch/>
        </p:blipFill>
        <p:spPr>
          <a:xfrm>
            <a:off x="4413240" y="1517760"/>
            <a:ext cx="4432320" cy="2676240"/>
          </a:xfrm>
          <a:prstGeom prst="rect">
            <a:avLst/>
          </a:prstGeom>
          <a:ln w="0">
            <a:noFill/>
          </a:ln>
        </p:spPr>
      </p:pic>
      <p:pic>
        <p:nvPicPr>
          <p:cNvPr id="68" name="Chart 6" descr=""/>
          <p:cNvPicPr/>
          <p:nvPr/>
        </p:nvPicPr>
        <p:blipFill>
          <a:blip r:embed="rId2"/>
          <a:stretch/>
        </p:blipFill>
        <p:spPr>
          <a:xfrm>
            <a:off x="4413240" y="4035600"/>
            <a:ext cx="4432320" cy="267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09480" y="1905120"/>
            <a:ext cx="3353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is more sensitive to process variation when header/footer sizing is min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becomes more sensitive to process variation as number of oscillator stage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5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4962240" cy="3213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5181480" y="16002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is more sensitive to process variation at higher 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knobs to maximize sensitivity for 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ing many sensors around the chip exploits the increased sensitivity for fewer ring oscillato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5029200"/>
          <a:ext cx="3200400" cy="1066680"/>
        </p:xfrm>
        <a:graphic>
          <a:graphicData uri="http://schemas.openxmlformats.org/drawingml/2006/table">
            <a:tbl>
              <a:tblPr/>
              <a:tblGrid>
                <a:gridCol w="776520"/>
                <a:gridCol w="774720"/>
                <a:gridCol w="1649160"/>
              </a:tblGrid>
              <a:tr h="355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/Foot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3:42Z</dcterms:created>
  <dc:creator>jar3qf</dc:creator>
  <dc:description/>
  <dc:language>en-US</dc:language>
  <cp:lastModifiedBy>jar3qf</cp:lastModifiedBy>
  <dcterms:modified xsi:type="dcterms:W3CDTF">2010-11-30T17:09:55Z</dcterms:modified>
  <cp:revision>14</cp:revision>
  <dc:subject/>
  <dc:title>Slide 1</dc:title>
</cp:coreProperties>
</file>